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05C-1400-4599-9CEB-22BB44FF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9F5-1706-46EF-AB90-EC7A0527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129-1027-41A0-BFCC-F440D639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CCE-9C82-44B1-8EFD-19C2AA01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5E8-54D6-42BA-B0AE-7534B580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8EA-AA6F-4BD6-A195-E4C14455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B27-A2A2-4AC6-8F85-24B82CE3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9CF-0D27-4ECC-BEC8-6C85EE10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6540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220-ACB4-4EF8-8CF3-5E02C98D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714-AD72-425E-9ED8-146E4275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C02-D355-4B96-9FE1-B4BF4555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D08-FB5D-45B5-9CCD-F9AE2936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4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0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5-10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3280"/>
            <a:ext cx="28926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© KING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FAA53-226B-4A49-92A6-8FB4AF90882F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53120" y="285840"/>
            <a:ext cx="2090880" cy="10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Terugkoppeling expertgro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Utrecht - StUF Regiegroep - 27/10/20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Maarten van den Bro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Onderwer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Definitie sectormodel en koppelv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  <a:ea typeface="SimSun"/>
              </a:rPr>
              <a:t>Koppelvlak BAG-W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  <a:ea typeface="SimSun"/>
              </a:rPr>
              <a:t>Aanpassing beheer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UML-modellering informatiemod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Definieer koppelvlak terugmelden (Cen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Behandelen RFC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6543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0068"/>
                </a:solidFill>
                <a:latin typeface="Calibri"/>
              </a:rPr>
              <a:t>Sectormodel / koppelvlak (1)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-1626480" y="3799440"/>
            <a:ext cx="504504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984600" y="2086560"/>
            <a:ext cx="161928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1554120" y="2017800"/>
            <a:ext cx="1619280" cy="498240"/>
          </a:xfrm>
          <a:prstGeom prst="roundRect">
            <a:avLst>
              <a:gd name="adj" fmla="val 31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282040" y="1961280"/>
            <a:ext cx="1619280" cy="611280"/>
          </a:xfrm>
          <a:prstGeom prst="roundRect">
            <a:avLst>
              <a:gd name="adj" fmla="val 25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8840" y="1460520"/>
            <a:ext cx="3790800" cy="311040"/>
          </a:xfrm>
          <a:prstGeom prst="roundRect">
            <a:avLst>
              <a:gd name="adj" fmla="val 50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ontvangAsynchroon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10000" y="2087640"/>
            <a:ext cx="3779640" cy="287280"/>
          </a:xfrm>
          <a:prstGeom prst="roundRect">
            <a:avLst>
              <a:gd name="adj" fmla="val 55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beantwoordVraag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8840" y="2741760"/>
            <a:ext cx="3790800" cy="318960"/>
          </a:xfrm>
          <a:prstGeom prst="roundRect">
            <a:avLst>
              <a:gd name="adj" fmla="val 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verwerkSynchroneKennisgeving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759240" y="4833000"/>
            <a:ext cx="207000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stuf0311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1263960" y="4833000"/>
            <a:ext cx="2070000" cy="360360"/>
          </a:xfrm>
          <a:prstGeom prst="roundRect">
            <a:avLst>
              <a:gd name="adj" fmla="val 44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bg0311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767240" y="4833000"/>
            <a:ext cx="2070000" cy="360360"/>
          </a:xfrm>
          <a:prstGeom prst="roundRect">
            <a:avLst>
              <a:gd name="adj" fmla="val 440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basis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03560" y="3983040"/>
            <a:ext cx="156672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lv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03560" y="4775040"/>
            <a:ext cx="1566720" cy="45108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pro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3560" y="5567400"/>
            <a:ext cx="156672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tio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95920" y="3983040"/>
            <a:ext cx="204444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lv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95920" y="4775040"/>
            <a:ext cx="2044440" cy="45108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proces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95920" y="5567400"/>
            <a:ext cx="204444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tiox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1080" y="3987720"/>
            <a:ext cx="1104840" cy="270000"/>
          </a:xfrm>
          <a:prstGeom prst="roundRect">
            <a:avLst>
              <a:gd name="adj" fmla="val 588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1080" y="4775040"/>
            <a:ext cx="1104840" cy="246240"/>
          </a:xfrm>
          <a:prstGeom prst="roundRect">
            <a:avLst>
              <a:gd name="adj" fmla="val 648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92480" y="3078000"/>
            <a:ext cx="1440" cy="90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7117920" y="4300200"/>
            <a:ext cx="326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7117920" y="5046480"/>
            <a:ext cx="326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1080" y="5567400"/>
            <a:ext cx="1104840" cy="282600"/>
          </a:xfrm>
          <a:prstGeom prst="roundRect">
            <a:avLst>
              <a:gd name="adj" fmla="val 560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7117920" y="5873400"/>
            <a:ext cx="326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-1189800" y="3823560"/>
            <a:ext cx="5045040" cy="312480"/>
          </a:xfrm>
          <a:prstGeom prst="roundRect">
            <a:avLst>
              <a:gd name="adj" fmla="val 509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typ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90840" y="6227640"/>
            <a:ext cx="2574720" cy="257400"/>
          </a:xfrm>
          <a:prstGeom prst="roundRect">
            <a:avLst>
              <a:gd name="adj" fmla="val 616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servic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6543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>
                <a:solidFill>
                  <a:srgbClr val="cc0068"/>
                </a:solidFill>
                <a:latin typeface="Calibri"/>
              </a:rPr>
              <a:t>Sectormodel / koppelvlak (2)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88920" y="1619280"/>
            <a:ext cx="7831080" cy="369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50920" y="1800360"/>
            <a:ext cx="1189080" cy="315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448000" y="3059280"/>
            <a:ext cx="6265800" cy="81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448000" y="3959280"/>
            <a:ext cx="6265800" cy="81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448000" y="2158920"/>
            <a:ext cx="6265800" cy="811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5400000">
            <a:off x="-1993320" y="3796560"/>
            <a:ext cx="4630680" cy="276120"/>
          </a:xfrm>
          <a:prstGeom prst="roundRect">
            <a:avLst>
              <a:gd name="adj" fmla="val 574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174240" y="3365280"/>
            <a:ext cx="251928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743400" y="3296520"/>
            <a:ext cx="2519280" cy="498240"/>
          </a:xfrm>
          <a:prstGeom prst="roundRect">
            <a:avLst>
              <a:gd name="adj" fmla="val 31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64000" y="2303640"/>
            <a:ext cx="1571760" cy="57600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99200" y="232416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-1595880" y="3778200"/>
            <a:ext cx="4630680" cy="312840"/>
          </a:xfrm>
          <a:prstGeom prst="roundRect">
            <a:avLst>
              <a:gd name="adj" fmla="val 509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typ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7760" y="5975280"/>
            <a:ext cx="2575080" cy="257400"/>
          </a:xfrm>
          <a:prstGeom prst="roundRect">
            <a:avLst>
              <a:gd name="adj" fmla="val 616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servic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6791040" y="257328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64000" y="3168720"/>
            <a:ext cx="1571760" cy="57636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ba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99200" y="318780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6791040" y="3438360"/>
            <a:ext cx="436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21080" y="2303640"/>
            <a:ext cx="1817640" cy="57600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21080" y="3168720"/>
            <a:ext cx="1817640" cy="57636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ba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64000" y="4032360"/>
            <a:ext cx="1571760" cy="57600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36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9200" y="405288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6791040" y="426564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21080" y="4032360"/>
            <a:ext cx="1817640" cy="57600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36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87400" y="477036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3515760" y="534672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Spelregels be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tormodel bestaat uit kern + koppelv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Wijzigen kern → nieuwe 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oevoegen koppelvlak → geen nieuwe versie, maar uitbr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Wijzigen koppelvlak ná toevoeging → nieuwe 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Expertgroep beslist over toevoegen koppelv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82080"/>
            <a:ext cx="654372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Voorstel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da5c21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Pas beheermodel aan en keur goed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0"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in volgende regiegroep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-457200">
              <a:buClr>
                <a:srgbClr val="da5c21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Voeg koppelvlak BAG-WOZ toe in bg0310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-457200">
              <a:buClr>
                <a:srgbClr val="da5c21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Pas structuur schema's aan als erratum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0"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0"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13:03Z</dcterms:created>
  <dc:creator>Peter Klaver</dc:creator>
  <dc:description/>
  <dc:language>en-US</dc:language>
  <cp:lastModifiedBy>Peter</cp:lastModifiedBy>
  <dcterms:modified xsi:type="dcterms:W3CDTF">2010-02-17T11:58:30Z</dcterms:modified>
  <cp:revision>3</cp:revision>
  <dc:subject/>
  <dc:title>Werkplan StUF 2010</dc:title>
</cp:coreProperties>
</file>